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7362-28BF-4F12-AD34-4B54F3505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A761-B0B0-4AEB-AC5B-FE13293BD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6360-09BF-44CA-B41D-EE183D291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C2E5-1FFA-475F-9C5F-DDC842BCF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5EC1-6CB5-4423-B8CF-2CB96EA124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D892-100F-435B-8734-7F72FB04E3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BA31-3D9E-40E7-AC5F-E2E5A7ECF7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A75C-408F-44BF-85BF-47971BD647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ACD6-5B3E-4630-973A-D7C233E7D0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7699-6AB4-42D8-B462-FE8A85B586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82EF-9391-4918-A92A-F6D8098175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54CC-DF62-4157-B3F7-5D275526A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B7AF0-A054-4445-8A77-3AAB7427C7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5BFA-31DA-413A-84AB-6F76B89EC0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75678-2520-4B67-8AD2-165AD525BD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768C-C922-4B80-B006-A3CBA34FFA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FED62-8ACB-4221-AEB4-684916977B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D548-F305-4E6C-8684-2EBFC4523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FBCC-02F2-425C-BC31-3B61F42D0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9AFA-C0DB-489A-949C-A23F9F683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D0D8-FEF5-4A58-AA98-B341D3644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6F73-344E-4BC9-9A21-0998FBF96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6A64-DF02-4EF6-A697-EDB333B66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8CA4-421C-4FC6-B5CF-29394AC33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0FCB-C383-42F6-A986-43CA94C58A2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0" y="1066680"/>
            <a:ext cx="2867040" cy="3156120"/>
            <a:chOff x="0" y="1066680"/>
            <a:chExt cx="2867040" cy="3156120"/>
          </a:xfrm>
        </p:grpSpPr>
        <p:sp>
          <p:nvSpPr>
            <p:cNvPr id="48" name="Rectangle 7"/>
            <p:cNvSpPr/>
            <p:nvPr/>
          </p:nvSpPr>
          <p:spPr>
            <a:xfrm>
              <a:off x="573120" y="358200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1716120" y="1690200"/>
              <a:ext cx="57456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2281320" y="1066680"/>
              <a:ext cx="58572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1141560" y="3582000"/>
              <a:ext cx="58392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281320" y="1690200"/>
              <a:ext cx="58572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1141560" y="2323440"/>
              <a:ext cx="58392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0" y="2323440"/>
              <a:ext cx="58248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1716120" y="2323440"/>
              <a:ext cx="57456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57312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1141560" y="2946960"/>
              <a:ext cx="58392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Picture 17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ldNum" idx="2"/>
          </p:nvPr>
        </p:nvSpPr>
        <p:spPr>
          <a:xfrm>
            <a:off x="8378640" y="6397200"/>
            <a:ext cx="306360" cy="30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D8C1-061E-4913-A8B4-5EEAE2BC876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Feedback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ão José dos Camp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s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tock: population(t) = population(t – dt) + growth x d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itial stocks: population = 60, 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 =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t = 1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un time = 7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: growth = population x 50%, population x 90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eedback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42100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s have limit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tock: population(t) = population(t – dt) + growth x d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itial stocks: population = 60, 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 =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t = 1 ye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un time = 7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low: growth = population x 50%, population x 9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What would happen if growth rates decrease 20% each year and we simulate until time 30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800" y="4042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Last lectur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" name="Line 2"/>
          <p:cNvSpPr/>
          <p:nvPr/>
        </p:nvSpPr>
        <p:spPr>
          <a:xfrm>
            <a:off x="2587680" y="281448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5384880" y="2822400"/>
            <a:ext cx="98568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401840" y="247500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459480" y="25322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3573360" y="2347920"/>
            <a:ext cx="1800360" cy="936720"/>
            <a:chOff x="3573360" y="2347920"/>
            <a:chExt cx="1800360" cy="936720"/>
          </a:xfrm>
        </p:grpSpPr>
        <p:sp>
          <p:nvSpPr>
            <p:cNvPr id="104" name="Rectangle 7"/>
            <p:cNvSpPr/>
            <p:nvPr/>
          </p:nvSpPr>
          <p:spPr>
            <a:xfrm>
              <a:off x="3573360" y="234792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4026240" y="2347920"/>
              <a:ext cx="8938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Stock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4220640"/>
            <a:ext cx="85345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Two ways to increase stock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tocks act as delays or buffer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tocks allow inflows and outflows to be decoupl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800" y="4042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eedback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83920"/>
            <a:ext cx="853452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 is how the system affect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2587680" y="3244680"/>
            <a:ext cx="98568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5384880" y="32576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401840" y="290844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59480" y="29638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7"/>
          <p:cNvSpPr/>
          <p:nvPr/>
        </p:nvSpPr>
        <p:spPr>
          <a:xfrm flipH="1">
            <a:off x="3849840" y="3249720"/>
            <a:ext cx="1382400" cy="11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39" y="0"/>
                </a:moveTo>
                <a:cubicBezTo>
                  <a:pt x="376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257"/>
                  <a:pt x="21600" y="8915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8"/>
          <p:cNvGrpSpPr/>
          <p:nvPr/>
        </p:nvGrpSpPr>
        <p:grpSpPr>
          <a:xfrm>
            <a:off x="3573360" y="2779560"/>
            <a:ext cx="1800360" cy="936720"/>
            <a:chOff x="3573360" y="2779560"/>
            <a:chExt cx="1800360" cy="936720"/>
          </a:xfrm>
        </p:grpSpPr>
        <p:sp>
          <p:nvSpPr>
            <p:cNvPr id="115" name="Rectangle 9"/>
            <p:cNvSpPr/>
            <p:nvPr/>
          </p:nvSpPr>
          <p:spPr>
            <a:xfrm>
              <a:off x="3573360" y="277956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3893040" y="2779560"/>
              <a:ext cx="11606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Rectangle 11"/>
          <p:cNvSpPr/>
          <p:nvPr/>
        </p:nvSpPr>
        <p:spPr>
          <a:xfrm>
            <a:off x="3849840" y="43322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5384880" y="347328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546200" y="3124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ir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372360" y="317988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5"/>
          <p:cNvSpPr/>
          <p:nvPr/>
        </p:nvSpPr>
        <p:spPr>
          <a:xfrm flipH="1">
            <a:off x="2745720" y="3465360"/>
            <a:ext cx="1382760" cy="113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39" y="0"/>
                </a:moveTo>
                <a:cubicBezTo>
                  <a:pt x="376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257"/>
                  <a:pt x="21600" y="8915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700360" y="4724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2587680" y="346068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03640" y="170028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rt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9"/>
          <p:cNvSpPr/>
          <p:nvPr/>
        </p:nvSpPr>
        <p:spPr>
          <a:xfrm flipH="1" rot="10800000">
            <a:off x="4761360" y="2400480"/>
            <a:ext cx="1538280" cy="106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958" y="0"/>
                </a:moveTo>
                <a:cubicBezTo>
                  <a:pt x="447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553"/>
                  <a:pt x="21600" y="9506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3571920" y="2995560"/>
            <a:ext cx="1801800" cy="938160"/>
            <a:chOff x="3571920" y="2995560"/>
            <a:chExt cx="1801800" cy="938160"/>
          </a:xfrm>
        </p:grpSpPr>
        <p:sp>
          <p:nvSpPr>
            <p:cNvPr id="128" name="Rectangle 11"/>
            <p:cNvSpPr/>
            <p:nvPr/>
          </p:nvSpPr>
          <p:spPr>
            <a:xfrm>
              <a:off x="3571920" y="2995560"/>
              <a:ext cx="180180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3621240" y="2995560"/>
              <a:ext cx="1703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Albedo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1" name="Picture 2" descr="image.png"/>
          <p:cNvPicPr/>
          <p:nvPr/>
        </p:nvPicPr>
        <p:blipFill>
          <a:blip r:embed="rId1"/>
          <a:srcRect l="0" t="0" r="0" b="11862"/>
          <a:stretch/>
        </p:blipFill>
        <p:spPr>
          <a:xfrm>
            <a:off x="2776680" y="619200"/>
            <a:ext cx="4249440" cy="4124160"/>
          </a:xfrm>
          <a:prstGeom prst="rect">
            <a:avLst/>
          </a:prstGeom>
          <a:ln w="0">
            <a:noFill/>
          </a:ln>
        </p:spPr>
      </p:pic>
      <p:sp>
        <p:nvSpPr>
          <p:cNvPr id="132" name="Line 3"/>
          <p:cNvSpPr/>
          <p:nvPr/>
        </p:nvSpPr>
        <p:spPr>
          <a:xfrm>
            <a:off x="3021120" y="589752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5818320" y="579276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692360" y="55609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966000" y="5505480"/>
            <a:ext cx="20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7"/>
          <p:cNvSpPr/>
          <p:nvPr/>
        </p:nvSpPr>
        <p:spPr>
          <a:xfrm flipH="1" rot="10800000">
            <a:off x="5151960" y="4836600"/>
            <a:ext cx="1538280" cy="106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958" y="0"/>
                </a:moveTo>
                <a:cubicBezTo>
                  <a:pt x="447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553"/>
                  <a:pt x="21600" y="9506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8"/>
          <p:cNvGrpSpPr/>
          <p:nvPr/>
        </p:nvGrpSpPr>
        <p:grpSpPr>
          <a:xfrm>
            <a:off x="4006800" y="5432400"/>
            <a:ext cx="1800360" cy="938160"/>
            <a:chOff x="4006800" y="5432400"/>
            <a:chExt cx="1800360" cy="938160"/>
          </a:xfrm>
        </p:grpSpPr>
        <p:sp>
          <p:nvSpPr>
            <p:cNvPr id="138" name="Rectangle 9"/>
            <p:cNvSpPr/>
            <p:nvPr/>
          </p:nvSpPr>
          <p:spPr>
            <a:xfrm>
              <a:off x="4006800" y="5432400"/>
              <a:ext cx="180036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49760" y="5432400"/>
              <a:ext cx="5144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Ic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Line 11"/>
          <p:cNvSpPr/>
          <p:nvPr/>
        </p:nvSpPr>
        <p:spPr>
          <a:xfrm>
            <a:off x="5794200" y="6191280"/>
            <a:ext cx="98604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6942240" y="5905440"/>
            <a:ext cx="207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flecte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ater in the dam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43" name="Group 2"/>
          <p:cNvGrpSpPr/>
          <p:nvPr/>
        </p:nvGrpSpPr>
        <p:grpSpPr>
          <a:xfrm>
            <a:off x="2998800" y="1627200"/>
            <a:ext cx="1800360" cy="938160"/>
            <a:chOff x="2998800" y="1627200"/>
            <a:chExt cx="1800360" cy="938160"/>
          </a:xfrm>
        </p:grpSpPr>
        <p:sp>
          <p:nvSpPr>
            <p:cNvPr id="144" name="Rectangle 3"/>
            <p:cNvSpPr/>
            <p:nvPr/>
          </p:nvSpPr>
          <p:spPr>
            <a:xfrm>
              <a:off x="2998800" y="1627200"/>
              <a:ext cx="180036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4"/>
            <p:cNvSpPr/>
            <p:nvPr/>
          </p:nvSpPr>
          <p:spPr>
            <a:xfrm>
              <a:off x="3508560" y="1627200"/>
              <a:ext cx="7808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Da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Line 5"/>
          <p:cNvSpPr/>
          <p:nvPr/>
        </p:nvSpPr>
        <p:spPr>
          <a:xfrm>
            <a:off x="2013120" y="209232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565440" y="3571920"/>
            <a:ext cx="1800360" cy="936720"/>
            <a:chOff x="3565440" y="3571920"/>
            <a:chExt cx="1800360" cy="936720"/>
          </a:xfrm>
        </p:grpSpPr>
        <p:sp>
          <p:nvSpPr>
            <p:cNvPr id="148" name="Rectangle 7"/>
            <p:cNvSpPr/>
            <p:nvPr/>
          </p:nvSpPr>
          <p:spPr>
            <a:xfrm>
              <a:off x="3565440" y="357192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4136760" y="3571920"/>
              <a:ext cx="657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Cit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Line 9"/>
          <p:cNvSpPr/>
          <p:nvPr/>
        </p:nvSpPr>
        <p:spPr>
          <a:xfrm>
            <a:off x="4809960" y="2133720"/>
            <a:ext cx="986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10"/>
          <p:cNvSpPr/>
          <p:nvPr/>
        </p:nvSpPr>
        <p:spPr>
          <a:xfrm flipH="1">
            <a:off x="4465080" y="4041720"/>
            <a:ext cx="1438200" cy="12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91" y="0"/>
                </a:moveTo>
                <a:cubicBezTo>
                  <a:pt x="4045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4900"/>
                  <a:pt x="21600" y="82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4465800" y="2349360"/>
            <a:ext cx="944280" cy="122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1755360"/>
            <a:ext cx="10098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6012000" y="4260960"/>
            <a:ext cx="13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5886360" y="177336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Generate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5221440" y="2781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sum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539640" y="573264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he information delivered by a feedback can only affect futur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ype 1: Balancing feedback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(Also negative, self-correcting, discrepancy-reducing, regenera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quilibrating or goal-seeking stru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image.pdf"/>
          <p:cNvPicPr/>
          <p:nvPr/>
        </p:nvPicPr>
        <p:blipFill>
          <a:blip r:embed="rId1"/>
          <a:stretch/>
        </p:blipFill>
        <p:spPr>
          <a:xfrm>
            <a:off x="1806480" y="2997360"/>
            <a:ext cx="564516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offee Cups Cooling or Warm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tock: coffee temperature(t) = coffee temperature(t – dt) – flow x d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itial stock: coffee temperature = 8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, 2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, 5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 = minu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t = 1 minu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un time = 20 minu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Flow: discrepancy x 1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screpancy: coffee temperature – room tempera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oom temperature: 2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ype 2: Reinforcing feedback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(Also positive, self-reinforcing, discrepancy-enhancing, degenera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lf-enhancing behavior that leads to growth or even collap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image.pdf"/>
          <p:cNvPicPr/>
          <p:nvPr/>
        </p:nvPicPr>
        <p:blipFill>
          <a:blip r:embed="rId1"/>
          <a:stretch/>
        </p:blipFill>
        <p:spPr>
          <a:xfrm>
            <a:off x="2195640" y="3357720"/>
            <a:ext cx="54054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dro R. Andrade</dc:creator>
  <dc:description/>
  <dc:language>en-US</dc:language>
  <cp:lastModifiedBy>Pedro R Andrade Nt</cp:lastModifiedBy>
  <dcterms:modified xsi:type="dcterms:W3CDTF">2020-07-30T16:46:46Z</dcterms:modified>
  <cp:revision>4</cp:revision>
  <dc:subject/>
  <dc:title>Feedbacks</dc:title>
</cp:coreProperties>
</file>